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ECF-8917-431D-947E-B3093A41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E4A-9744-4805-859E-179CD091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30BB3-D1BD-4E67-AB25-82F1D793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4930E-E4D5-4914-A647-B2EF8B6C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FFD6C-05D2-432A-A06A-A42D65FF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3C32B-A24C-4960-878D-FEBB921E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0CBBC-122A-469A-B460-7A37946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C2CB2-AEB6-4A44-A29C-62947366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324AF-80E5-4A08-91C1-C2AB50A7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D7D14-7D47-48BD-A347-A87AB7B3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AB172-B012-43BD-B292-28930F97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4DEAF-7E7E-4548-A427-3DDF80CF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FB7-368D-4A6E-A24D-41CD1BCC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9893A-3623-459E-BDB3-EAA11818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8DF99-CBD4-4C90-BBF3-E7C77C53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8944F-1B6A-41C7-97B0-B6AD978E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C8588-67CB-4F44-B11B-D24E4818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98082-2740-44AF-9C3A-1B50AA21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FC9DA-6933-43C4-89D5-61934438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A3D9B-D71F-4359-8BC2-E8C6EC7B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665E1-8B6A-4FF5-9FBA-AFA9D54D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BE9F7-147C-48EE-86EB-2052CCA9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51036-BC0B-48AB-8700-2C1C52BD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F4E-AF20-4AF8-889E-B01E49D4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B8801-4B73-4125-B1C4-FDE2C0D4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A2063-6D85-4209-B882-51FB44DF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E7CBE-6F2C-4E9D-BA95-4C4806D2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77DFE-808E-4354-A971-F5989697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2A2DE-EE49-453E-8893-6BE4E4DB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824E3-4DF7-4029-9B12-E188636D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9F3BD-4A7A-498F-A354-04104395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850B6-70FE-4C67-B234-C00D9214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56F9C-FAD5-447E-B84A-B44E9CE7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53C5A-6D07-4C9D-BDD6-7A7DEF94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F3D-B03A-4B4D-9975-6CBBBFB4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7BE55-ABFC-4E0E-8E77-1061B188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F4608-639E-4A3B-A12A-22CE454E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DFEA3-8BA7-4F2B-9AF4-3247932B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ED04F-32AF-4B98-A10D-B9C513A8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FE220-C35C-471C-AC40-E08F7EDB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86800-B68E-48E7-9984-A6DA344E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41898-3925-42C5-B7AD-E453E5CC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BD6A2-F94F-4A7C-B634-D5BD332A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D3DEC-5266-47B7-AC08-6B4788DD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6F899-9380-4B36-A7C0-5CE2E44A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61D5-9C1C-48CB-95C1-A5AEB656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8D510-7FB1-45F4-A433-959EC5FB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91740-4D8B-4353-A1AD-D4EFB308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DA19E-60B3-4DBF-B2B5-732A5DE1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CBF5D-0F32-4FC1-92EB-6FAF1BE2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49CC3-27D8-4862-8EA2-A21ECEFF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31CDE-1589-4BE4-93EF-7263C972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9CD44-ABB4-42BD-95DF-CD7A2C56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1F4D3-4E66-455D-B645-43225160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75A77-AB54-4F6D-A4EA-2BD7F66D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67819-94C1-4A6F-BAED-46A42595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9F7E-3EFE-408C-8DAB-DFE9E83D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82BE3-17C2-4E19-829C-3CF6E04A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BB98E-8864-42EE-976A-AAD67288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E6B51-0948-4A37-9235-F6764125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63048-A2B2-46E2-97E5-77F8D07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1FD0C-C1D7-4508-B6D4-68D22E52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99BA3-6A41-4D57-9AE8-EAE28A50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0D49E-6308-46BB-B99E-DBD19A56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230B7-844F-41F3-BB60-560813B0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64BE9-FB74-407F-B0F8-127D6AD4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5A974-F3AA-476C-9917-016D91C4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9DEB-737A-4383-8898-29AA1E68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80477-852E-472C-92AF-2727F91C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A299F-6F51-4412-B6B5-6228B189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A8140-6C68-4190-AE8F-EE39BEA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66A59-1548-4F87-AD35-B732E782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02670-F01B-47E7-8CD7-51934A1C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B24E7-C779-498C-926E-B311FCDB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E1A04-ADBF-4D31-99B3-26057AA9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6BECB-3D81-4651-95E9-3AB87605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D9FD3-4A81-4D3B-BE9B-16AC41A6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72DA-9F94-47C1-A28E-1720BEF2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5E53-7E5A-4D43-8A7D-DBCF8C62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FC56-3402-4778-9619-1EEA3E85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11B-475A-442F-A789-0903EA29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71D8-677F-4A54-8177-CD38FA34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E4AC-23E8-43CD-90E6-9CDC7391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BB91-5916-437C-8CF1-3A030893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BBC9-AC1A-4A5E-A8FB-9AB73F2F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F517-A291-463D-9B0C-CEF7EDF7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97CF-7ABF-44AD-898C-6174B786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2E365-EF32-46B9-8DA2-B053C629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D033-DC02-4B71-89F3-05629C0C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28352-71F8-4668-8A83-A812137B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DAE3-CAEC-48AC-9AF0-5F69E5BC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477-1995-44EB-A464-AAA25C1C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5268-597D-4828-A5F1-8BE165ED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AE502-CDEB-4788-B4BD-543A928C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5F440-A0BC-4D75-BD79-E2C7BAB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5C34-7C14-42AA-9FA4-F7DB48EB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1422-09A4-49C4-A8D2-F88A19E1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7F02-60EF-4F6E-8310-01163C06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90F6-4B43-44FD-BB8F-1C0B09F4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0D18C-31B9-4659-9089-EE8BFAD4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3378-6790-49A7-9F29-28F3CB1A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D36E-A04C-449B-839E-49A8AFE2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9AA-A608-4E1A-ACDD-2E90BD7F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ABB1-8FD3-4D02-AAA1-4E83F37F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B4B98-7A75-4E4D-A647-99AB4722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FCD6-8920-4C21-B011-1D9A0052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C67F7-A9C1-45CB-81F1-C6E77CC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DB49-30DC-4E39-A57E-07900707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80E0-32F7-430A-81DF-A10F6074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B3D3-841B-438A-943D-7F1120AC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5A92-1DDA-4FEA-AD2A-B98FEB82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C0EE-9A41-4144-BA0D-D4D6D862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9BD8F-5241-4E43-B02C-06648D74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B11-FD51-49C7-A6E6-E50BAEBF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A6ECD-610C-4822-A9C8-547CEF62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4CCDE-3EC4-4B33-A0A6-BC1827DE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0AA9A-56B9-4500-A23F-0440DFA0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78B7E-F431-44CE-B74C-81B2EC93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3469-B7B5-4D2C-8E45-FC447072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B2464-62A7-4643-84A8-0252B7A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62F4D-D682-4B4D-9B0B-6E9E570E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059B8-0791-4CAB-A74A-2DB5F44F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4020A-6091-443E-9708-F7BEB832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52AE3-4C0F-4873-B11B-7B2CCAAF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74B-90A7-4E39-A415-30D242CE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BEE10-ACEC-4F02-AD29-81726F3A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806DA-FDA2-4F85-8F5E-68519B00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A7A65-B2BA-43FF-A20F-564168EE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B310A-EB73-4F5D-AEAB-A564DB41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3EAF1-06AB-4342-B058-5F6CD50F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A3ED7-09ED-409F-83E0-B5A183BF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74167-4242-4F62-B0C3-D94360AF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AEE44-FF7D-4A6F-93D3-10D59EB0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6CB9D-68CA-413F-81A9-B18D8FD9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3F0C0-AE1A-48A9-B190-C8DAF58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F5B-4282-4042-B055-3596AD17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EEB4FE-E8FE-49C4-99C5-00867C0C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56458-D6C9-4859-B0A1-3A67D458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9FB5E-1FCB-4430-AF84-A11482BA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A9877-BA39-402B-8641-B41E0C90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C5031-50CC-41AE-854C-70BDF277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EFBBE-1398-44FB-8CA6-DAF07D5A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98B16-9F96-4DEF-ABDF-A2FAAEAF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A86E0-FD4E-4D7D-86E4-EEE52A17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E0498-A413-44F1-819B-DE9D1B0D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9349A-76AA-4B7D-A677-45CDCD27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70C-9983-4FB9-887E-AB8B1C4B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83431-FBCB-4E88-AD0F-7BE7F47D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0A5CE-1CB7-4448-98C6-9940B735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868A5-2FD1-48EE-859F-EEDE8D14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8A076-A8FD-4EFB-8D1A-FE9C7E0B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A6C13-9DBC-4FCD-9547-0D8DBD79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B5DF0-2A34-4784-82DF-EAC6E94F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BCBB7-CFF0-4448-9966-8FA07F4A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72D18-4967-4523-94F4-A974D104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3F48F-5ED5-4CC5-B336-71AF8B2A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BD6CA-2858-4B18-A045-F20F7329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937-4215-4334-88C1-5998D1B8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714F9-C26A-4A4F-AF67-DCD5ECB2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DDFB6-EF6A-43A8-A36B-6DB0002A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A4E39-6428-40A5-ADC7-EC41B0F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B304D-8005-4D78-8A4A-711EAD80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CB0D3-3562-4B05-BD37-D87567CD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B5F1B-786F-462C-9C27-23FDA089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09C9B-AE51-468F-9D76-9AF94692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B6274-DF9B-46C0-BCCF-B9D30258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3017A-9934-4C3A-BABE-3DFEA9EE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0E63A-4EC6-47CD-B458-7FA63D40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E82C-D822-4C22-83E8-72B1B43A37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7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258A-7549-4FFF-BB96-905D712D1F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1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1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3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0108-6240-4BE6-8180-18ADCC0B52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1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1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2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D09B-04B1-4D7D-BC13-7144B8747D0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0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E0DA-25B3-4FA5-8575-6411C2094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8D4D-F982-4282-B391-0D67F2FBA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8A9E-A255-46C9-8293-796632EC4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450-D819-4226-8A7B-258C670EC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173D-F44F-4890-9806-E6E07621E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6A57-A15C-43A4-A670-6CD325B1F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FD48-8412-484E-871C-F352FC86C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7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0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04BE-9297-432F-8E4A-573D2CD7DA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5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5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6E79-0D20-4464-8E1B-E0278EEB6D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3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E3C4-45EB-4B70-BDF4-9BF307C377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Rockwell Condensed"/>
              </a:rPr>
              <a:t>Mi cabaña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Rockwell Condensed"/>
              </a:rPr>
              <a:t>Por Hailey Paolin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2743200" y="3600360"/>
            <a:ext cx="3581280" cy="268308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ockwell Condensed"/>
              </a:rPr>
              <a:t>El gar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Rockwell Condensed"/>
              </a:rPr>
              <a:t>Es un garaje. El garaje es antiguo pero grand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2571480" cy="3429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Rockwell Condensed"/>
              </a:rPr>
              <a:t>Mi cabaña es estupenda y bella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2"/>
          <a:stretch/>
        </p:blipFill>
        <p:spPr>
          <a:xfrm>
            <a:off x="2438280" y="2604960"/>
            <a:ext cx="4815000" cy="32781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Rockwell Condensed"/>
              </a:rPr>
              <a:t>La coc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Es una cocina. La cocina es pequeña y impresion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4800600" cy="336888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Condensed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Es un comedor. El comedor es bonito y luj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2"/>
          <a:stretch/>
        </p:blipFill>
        <p:spPr>
          <a:xfrm>
            <a:off x="3733920" y="3200400"/>
            <a:ext cx="3886200" cy="290988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Rockwell Condensed"/>
              </a:rPr>
              <a:t>La sa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  <a:ea typeface="Tahoma"/>
              </a:rPr>
              <a:t>Es una sala. ¡</a:t>
            </a: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La sala es fabulosa y magnific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2895480" y="2995560"/>
            <a:ext cx="4577040" cy="308448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ockwell Condensed"/>
              </a:rPr>
              <a:t>El bañ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Es un baño. El baño es peuqeño pero impresionan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4038840" cy="32781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cuar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 un cuarto. El cuarto es grande y nuev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4762800" cy="31575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Rockwell Condensed"/>
              </a:rPr>
              <a:t>El pat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Es un patio. El patio es nuevo , estupendo, y boni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967280" cy="33051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Rockwell Condensed"/>
              </a:rPr>
              <a:t>El jard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Es un jardin. El jardin es increible y impresion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357440" cy="290052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7:21Z</dcterms:created>
  <dc:creator>paolinihai</dc:creator>
  <dc:description/>
  <dc:language>en-US</dc:language>
  <cp:lastModifiedBy>paolinihai</cp:lastModifiedBy>
  <dcterms:modified xsi:type="dcterms:W3CDTF">2012-10-25T18:07:32Z</dcterms:modified>
  <cp:revision>8</cp:revision>
  <dc:subject/>
  <dc:title>Mi cabana Por Hailey Paolini</dc:title>
</cp:coreProperties>
</file>